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954F-9BE1-4551-B596-99AF034F9B11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4A2B-5B10-46A8-A6B1-083349C0EF04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462F-6977-4F33-B608-5F0FC1E8D033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35BD-A648-4EBD-B861-FDE3DFD9C56D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B99E-40AA-49C7-84B5-6DEFAE9BFDC7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3977-2BDD-45D9-B21B-59AD8F54F932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8321-4390-400E-A96A-6EBA273B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BFD-F9E9-4CFE-8AC5-3C68E194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2E55-03D5-4F1F-8FF6-936183EB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A1CC-66DB-4F94-A04C-0182E5DA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A09F-2C63-4E1E-9638-5B431047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D791-859A-4D17-B689-45099EC9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7A3B-C8C2-48C5-89FE-B724B0AB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20B1-0F63-4244-82C0-A7AE3888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303A-1459-48D9-BED1-F4068E72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79B6-89B9-407B-B0E7-0F96A2A8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6105-63DE-4F50-927A-42225655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8E5F-43B9-40BC-AFF5-6E8ABABE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A368-5CAB-44EB-A0B5-E7400778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CF6B-A634-4197-9C79-A6FC6904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C487-5105-4BDD-AEE4-6E5780C3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CB1E-6B30-44E3-B2C4-4A5A81BD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951E-B407-4D31-A15B-8B4DA6DB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0018A-70D4-4B21-927A-75489EA3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5CBD6-3093-45D4-B6C6-CFD04B2F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D925D-E2A7-4BA1-A2DD-55FE4946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5683E-597D-4B42-98A9-9A148114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6BE07-FC8D-4598-91B2-1E0724F9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084-2E36-4AA2-8159-683B777F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997EA-CDF1-4FAA-B1ED-CCE9FB90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47AAF-7006-43F8-B19B-0A0E1456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2FB96-2F20-47D7-8084-7633DB94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24B2B-B69A-4B5F-A959-8B156B48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51886-28B3-428E-8F86-723900C7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8BACD-5C0E-4247-920D-87F3F8E5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9653B-D10C-47B9-B9D8-A9C8424A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DAF6E-BC6E-4557-85EE-F829662E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076DA-C9FE-40CF-BC81-4792184E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42BC2-6E4B-4AFD-B514-6E50A035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FFCB-DC8B-45C3-8594-10A86282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78F52-F1F7-42E9-A8BF-8B16C4A6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34A2B-EB98-424D-821E-305B3093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F6597-4357-4D95-BFE7-9B687D02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5E72A-C4AD-473E-A498-C48A3190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D6EEC-4D35-4875-A0EF-3CD1F5F2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A8A20-0BCF-48EE-9539-B07DF8F6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03F73-5657-4779-AB43-7F811360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AADC1-0AF5-4DC4-A022-567914DB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6E3DB-3598-4D68-9641-5D918312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29B50-FA64-44B5-B216-F1837350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8019-81E4-4564-A218-DC976540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AEC9B-0067-4EF0-912E-7CD244E7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42B76-61A8-4D6C-9802-0B5532B6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71FBC-0A9C-43C3-B033-6BBFC139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94196-C571-498B-9AFF-A1CC2792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2543A-CC56-46CE-86CD-1D78835C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F18FA-8B5F-4D4B-81E1-F0FC4847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4A417-06FF-4FD5-8866-4C945544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136D6-DDD2-4905-9377-61C6F298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D7E69-0ED1-4EDA-805D-A0F95835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ABF06-2D04-458D-A218-9DA61860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4C5F-9FEC-4439-8637-CCDE1CE7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B1F38-9DEC-4D88-AF38-A6B3BEBF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36006-AEF3-4C01-B128-EE5BA579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2ADBA-477F-4363-B122-492DD291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039E7-FC4C-4ED9-80AE-5BFC04E4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A6E42-617A-4D6E-870D-26E2AB95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C5BE5-75EB-45B7-B76B-98DDA9C9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12220-9D1E-46F9-BD2E-38FCE7BA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BC12C-2A35-4C0F-B288-4B50DF1D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0AE3B-235E-4FDC-9359-AF891C80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45316-431C-4E25-B5CC-552530E1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69A-EC77-4789-AA79-4A9A6E6D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1B175-48D2-4E78-BEB4-02EBC8E7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2B0B8-BB18-46CC-83EF-1F81FBE0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77CB2-6C83-4202-AEEA-E82AFADE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81F8C-FC5F-4FFF-BBD1-5BFEE24B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C702E-3867-4637-BA8D-BFE1CE26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E8E0E-B6C6-4E92-A238-9DE807AA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F2F52-6B4C-43C6-B952-B1E635C8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33225-AEB5-40EE-9AFC-CC2E3031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F222A-CFAC-49D2-960C-062B58D0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A74C4-A725-48B7-ABF1-00478763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7B1-660F-4A40-8AE3-A8E0C333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1D9AD-82E5-4A57-8F77-661D48D5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80011-548A-435C-8086-EA3925B8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BE5D0-CBD4-4E53-922F-FC5E30B9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E6960-A53A-46E7-B519-2B04B182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02EA9-C318-4974-9AA7-486CD109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DA09A-0CE6-4DED-A06B-0D2E4E1D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03F15-94CE-4C60-8751-101849D8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9A791-83D7-456B-897F-9D246937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EAC7E-A0A8-4AE0-8387-F165EF57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46504-8B0B-4610-833C-3C56BC56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9CA1-DC14-46C1-B81C-C77F303A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43F79-2EB6-4DF4-969E-DAD69954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CCE3B-D2C8-4EB7-A440-9C0F3462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8C1B8-701A-4E16-AAF9-9FFF5223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2A4CE-954E-429B-998C-EF40C1FC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82DE0-CD92-43F9-9CDF-0C413B71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FA593-0204-40A8-AE63-2E5CBC58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AD4E6-A145-4EE0-A40D-189819EB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uolivapaa piirt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uolivapaa piirt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Suorakulmainen kolmi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Suorakulmainen kolmio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uora yhdysviiv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7E15-064D-413C-A363-C724602DECC4}" type="slidenum">
              <a:rPr b="0" lang="fi-F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uorakulmainen kolmio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d004e"/>
              </a:gs>
              <a:gs pos="50000">
                <a:srgbClr val="ff4192"/>
              </a:gs>
              <a:gs pos="100000">
                <a:srgbClr val="cd004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Ryhmä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Puolivapaa piirto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f9eb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Puolivapaa piirto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Puolivapaa piirto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Puolivapaa piirto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uora yhdysviiva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8965-A01A-456F-829C-2069FDFEB379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uolivapaa piirt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uolivapaa piirt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Suorakulmainen kolmi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Suorakulmainen kolmi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uora yhdysviiv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Lovettu nuolenkärki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Lovettu nuolenkärki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AD42-9B45-4DA7-B46F-78EBA928F220}" type="slidenum">
              <a:rPr b="0" lang="fi-F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uolivapaa piirt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uolivapaa piirt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Suorakulmainen kolmi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Suorakulmainen kolmi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uora yhdysviiv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B9A7-7E1F-4D16-A6BC-DA256AD772FF}" type="slidenum">
              <a:rPr b="0" lang="fi-F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BC32-ED4C-4D30-888A-843F9F214878}" type="slidenum">
              <a:rPr b="0" lang="fi-F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uolivapaa piirt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uolivapaa piirt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Suorakulmainen kolmi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Suorakulmainen kolmi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uora yhdysviiv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91D3-90B0-4D48-8940-85A74FCA97A3}" type="slidenum">
              <a:rPr b="0" lang="fi-F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6A10-85EE-4CEB-9C0A-51852E1D7C46}" type="slidenum">
              <a:rPr b="0" lang="fi-FI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uolivapaa piirto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uolivapaa piirto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Suorakulmainen kolmio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Suorakulmainen kolmio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uora yhdysviiva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Lovettu nuolenkärki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Lovettu nuolenkärki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AEE7-F429-4CD2-A504-9E58B82A7BE8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Otsikko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2700" spc="-1" strike="noStrike">
              <a:solidFill>
                <a:srgbClr val="6666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Lucida Sans Unicode"/>
              </a:rPr>
              <a:t>Kansantaudeiksi kutsutaan kaikkia tauteja, joilla on vaikutuksia</a:t>
            </a:r>
            <a:r>
              <a:rPr b="0" lang="fi-FI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Lucida Sans Unicode"/>
              </a:rPr>
              <a:t>Ne kuluttavat yleensä paljon terveydenhuollon voimavaroja ja aiheuttavat työkyvyttömyyttä, joten niillä on suuri taloudellinen merkity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Lucida Sans Unicode"/>
              </a:rPr>
              <a:t>Kansantauteihin ovat syynä muun muassa elämäntapa, sisäsiittoisuus, geeniperimä ja saastee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4100" spc="-1" strike="noStrike">
              <a:solidFill>
                <a:srgbClr val="66666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Verenpaineella tarkoitetaan valtimoissa olevaa painetta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Verenpaine pitää veren liikkeessä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Pysyvästi kohonnut verenpaine on maamme yleisin terveysrisk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Normaali yläpaino alle 130 ja alipaino alle 85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Verenpaine on koholla, kun yläarvo on 140 tai ala-arvo yli 90 tai näitä korkeampi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Kohonnut verenpaine vahingoittaa valtimoita ja aiheuttaa aivohalvauksia ja sydäninfarkteja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Verenpainetta voi jokainen alentaa vähentämällä suolaa ja liikkumalla riittävästi, tupakoitsija lopettamalla ja ylipainoinen laihduttamalla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Jos omat keinot eivät laske verenpainetta riittävästi, tarvitaan verenpainelääkkeitä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Otsikko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Eri puolilla kehoamme solut lisääntyvät jatkuvast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Joskus solut jakaantuvat  hallitsemattomasti. Jos valkosolut eivät onnistu lopettamaan jakautumista, niistä kasvaa solukasaumia. Näin saa alkunsa kasvai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Hyvänlaatuinen kasvain pysähtyy kasvussaan, kun taas pahanlaatuinen kasvain ,eli syöpä, jatkaa kasvuaan ja tunkeutuu eri kudoksii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Syövän yleisin aiheuttaja on tupakka. Myös passiivinen tupakointi lisää syövän riskiä huomattavast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Myös ruokavalio ja elämäntavat voivat edesauttaa syövän syntymistä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Otsikko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556E-017 -3.33333E-006 C -0.00764 0.01366 -0.01007 0.02986 -0.01667 0.04445 C -0.02049 0.06389 -0.03316 0.07755 -0.04167 0.09352 C -0.04531 0.10023 -0.04687 0.1088 -0.05 0.11574 C -0.05538 0.12778 -0.0625 0.14121 -0.06997 0.15116 C -0.07257 0.16111 -0.07587 0.1588 -0.0783 0.16898 C -0.04201 0.19306 -0.02708 0.17477 0.03333 0.17338 C 0.05608 0.17107 0.06771 0.16945 0.09167 0.1713 C 0.09983 0.1757 0.10469 0.17986 0.11163 0.18681 C 0.10781 0.20348 0.0901 0.2007 0.08003 0.20672 C 0.02865 0.23727 -0.03976 0.23426 -0.0934 0.23565 C -0.10122 0.23912 -0.10885 0.24329 -0.11667 0.24676 C -0.11111 0.21135 -0.06806 0.20255 -0.04826 0.19352 C -0.03281 0.18635 -0.01597 0.18727 -2.77556E-017 0.18241 C 0.03264 0.17246 0.06337 0.16667 0.0967 0.16227 C 0.11615 0.15973 0.1309 0.15672 0.15 0.15116 C 0.15677 0.14931 0.16997 0.14445 0.16997 0.14445 C 0.16059 0.10672 0.17326 0.1544 0.16163 0.12014 C 0.15816 0.10973 0.15642 0.10093 0.15174 0.09121 C 0.15052 0.08449 0.15 0.07778 0.14826 0.0713 C 0.14722 0.06736 0.14531 0.06366 0.1434 0.06019 C 0.14253 0.05834 0.13993 0.05556 0.13993 0.05556 L 0.13507 0.01783 L 0.13003 -0.0243 L 0.00503 0.02454 E">
                                      <p:cBhvr>
                                        <p:cTn id="88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2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Joka toinen meistä kärsii jossain elämänsä vaiheessa allergian aiheuttamista oireista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Kun ihmisen elimistöön pääsee vieraita aineita, kuten viruksia, bakteereja tai myrkyllisiä aineita, se puolustautuu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Allergisen ihmisen immuunijärjestelmä toimii epätarkoituksenmukaisesti ja elimistö puolustautuu sinänsä harmittomia aineita, kuten siitepölyä tai ruoka-aineita vastaan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Allergiaa aiheuttavat mm.siitepöly ja eläinten hilse ja jätteet. Myös eri ruuat voivat aiheuttaa allergisia reaktioita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Lucida Sans Unicode"/>
              </a:rPr>
              <a:t>Allergia on yleistymässä, koska ympärillämme on ärsykkeitä aiheuttavia kemikaaleja yhä enemmä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Otsikko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6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6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6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6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6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6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6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6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6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4:40:21Z</dcterms:created>
  <dc:creator>Ritva Tamminen</dc:creator>
  <dc:description/>
  <dc:language>en-US</dc:language>
  <cp:lastModifiedBy>Ritva Tamminen</cp:lastModifiedBy>
  <dcterms:modified xsi:type="dcterms:W3CDTF">2010-02-07T15:05:15Z</dcterms:modified>
  <cp:revision>3</cp:revision>
  <dc:subject/>
  <dc:title>Kansantaudit</dc:title>
</cp:coreProperties>
</file>